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5BE-D1A7-486E-82FB-CCB44082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CFC-4E57-4712-BB4B-D685D416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665-52A2-4E6F-84F3-D5ADE40E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40C-7421-418C-940E-3782B302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A026-1F4E-45D0-9917-E9CE0FAF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74A6-8FD7-4A8C-9E12-6C820AC1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D60B-07F2-4B26-9CE8-2B1AF524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8D7D-C976-4C92-8F51-9CE765F1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E675-A833-4D36-8116-EC8EF050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D430-CD6F-4CFA-AF59-C22201DE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CB9E-6EFF-4BCC-94B0-17ED975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B6C-7F4B-46D4-8BA5-2CCDCDA9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A560-81C2-460A-A373-1B02A3D0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EF41-40E3-4177-BD1D-179EF3A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C626-0BA2-448F-9FF4-B9196D93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E2A1-1A2B-44F0-ACBD-E78DBAC6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757D-6A99-4A72-B270-4B5983E3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09C-F07A-403D-9B2F-AA3B2B3A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932-DC13-468D-96E0-3BE0235B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AB4-FAEB-4654-B27C-06729CAE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380-1B8F-45B1-BFD5-E364CB23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2B3-E54B-4A8D-851E-858D406B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0B4-C22D-422E-8F63-59BA20E4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CB2-496B-4EFC-B5EF-ADC08CC0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DF5D-1000-4113-95C1-323513812900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E5ED-8F76-4609-8207-1F4CE917469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colt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an R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/25/11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 rot="17529600">
            <a:off x="5134320" y="5227920"/>
            <a:ext cx="4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562720"/>
            <a:ext cx="7391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nife F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311, 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95680" y="3809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9912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Colt"/>
          <p:cNvPicPr/>
          <p:nvPr/>
        </p:nvPicPr>
        <p:blipFill>
          <a:blip r:embed="rId1"/>
          <a:srcRect l="0" t="0" r="67864" b="0"/>
          <a:stretch/>
        </p:blipFill>
        <p:spPr>
          <a:xfrm>
            <a:off x="0" y="0"/>
            <a:ext cx="3200400" cy="3070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Colt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352680" y="0"/>
            <a:ext cx="43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57200"/>
            <a:ext cx="533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melson MI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Col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/28/11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Arial"/>
                <a:hlinkClick r:id="rId3"/>
              </a:rPr>
              <a:t>http://web.mit.edu/invent/iow/colt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vention: Colt Revolv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t Revolver was obtained by Sam Colt from the U.S. Arm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t Revolver shoots 6 more bullets than other sidearm or pisto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t Revolver was so famous more people created the model by modifying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t Revolver is mostly used by Texas Rang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most famous revolver is the 44 magnu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ventor: Samuel Col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 Colt was born in July 19 1814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 set up a shop in 1837 in Paterson, New Jerse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age of 22, Colt obtained a U.S. patent for Colt Revolv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industrial Colt had also created several other revolvers including belt, pocket, and holster revolv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1846, The Mexican War began and the U.S. War Department came to Colt for help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8:20:38Z</dcterms:created>
  <dc:creator>install</dc:creator>
  <dc:description/>
  <dc:language>en-US</dc:language>
  <cp:lastModifiedBy>install</cp:lastModifiedBy>
  <dcterms:modified xsi:type="dcterms:W3CDTF">2011-03-11T18:31:20Z</dcterms:modified>
  <cp:revision>16</cp:revision>
  <dc:subject/>
  <dc:title>Colt Revolver</dc:title>
</cp:coreProperties>
</file>